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AACA-52BC-4F0D-82E2-76764B8A8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C3EE-9471-4E29-8E80-693D10A5E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FCED-1A5E-4998-B29F-AD8E8919C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EA0C3-D27A-49BF-BEF1-AA9F6CC169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AAAB-5E41-45D0-BF4D-F5A2BEFD5C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FC48-7357-4FF7-A0B1-3EA9D5BA17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94486-A0E1-4A46-B2DA-C1DA5A97B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12143-8664-4C4E-9863-198EE3CB5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CAA57-031F-4B65-83A5-B0DE802D5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05C4-0037-4F59-A223-D21C9A7ADC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C29E-8112-4479-81D8-FDFCC820B4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3D6F-A66E-4632-B3B7-25ACB963EA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C1C73D2-04F2-4178-9A61-376A68990393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908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Dokumentation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gedruckt am: </a:t>
            </a:r>
            <a:fld id="{8EE3E214-8F3C-4C6E-B9B3-83095046621F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rcRect l="78420" t="0" r="0" b="0"/>
          <a:stretch/>
        </p:blipFill>
        <p:spPr>
          <a:xfrm>
            <a:off x="8839080" y="44280"/>
            <a:ext cx="97020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6C5F006-234E-49B6-AAC6-CAF3E6538162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ustomName# Upgrade #NX#  - #TC#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58920" y="2374920"/>
            <a:ext cx="92883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0" bIns="0" anchor="ctr">
            <a:noAutofit/>
          </a:bodyPr>
          <a:p>
            <a:pPr>
              <a:tabLst>
                <a:tab algn="l" pos="0"/>
                <a:tab algn="l" pos="10796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ALL: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Nr#  </a:t>
            </a:r>
            <a:br>
              <a:rPr sz="2600"/>
            </a:b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#CallDescription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58920" y="4724280"/>
            <a:ext cx="412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: 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n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Name1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tand: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 #??.??.201?#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eschreibu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oliennummernplatzhalter 2"/>
          <p:cNvSpPr/>
          <p:nvPr/>
        </p:nvSpPr>
        <p:spPr>
          <a:xfrm>
            <a:off x="7821720" y="658512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CA4449B-7E17-4655-80E2-D8FF03BB1312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feld 3"/>
          <p:cNvSpPr/>
          <p:nvPr/>
        </p:nvSpPr>
        <p:spPr>
          <a:xfrm>
            <a:off x="236520" y="1068480"/>
            <a:ext cx="84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itte hier den Beschreibungstext einfüg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31"/>
          <p:cNvSpPr/>
          <p:nvPr/>
        </p:nvSpPr>
        <p:spPr>
          <a:xfrm>
            <a:off x="-411120" y="238284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32"/>
          <p:cNvSpPr/>
          <p:nvPr/>
        </p:nvSpPr>
        <p:spPr>
          <a:xfrm>
            <a:off x="-411120" y="267336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3"/>
          <p:cNvSpPr/>
          <p:nvPr/>
        </p:nvSpPr>
        <p:spPr>
          <a:xfrm>
            <a:off x="-411120" y="3013200"/>
            <a:ext cx="216000" cy="21744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7"/>
          <p:cNvGraphicFramePr/>
          <p:nvPr/>
        </p:nvGraphicFramePr>
        <p:xfrm>
          <a:off x="-411120" y="3392640"/>
          <a:ext cx="30492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11120" y="339264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wichtig"/>
          <p:cNvPicPr/>
          <p:nvPr/>
        </p:nvPicPr>
        <p:blipFill>
          <a:blip r:embed="rId3"/>
          <a:stretch/>
        </p:blipFill>
        <p:spPr>
          <a:xfrm>
            <a:off x="-438120" y="3857760"/>
            <a:ext cx="331920" cy="312480"/>
          </a:xfrm>
          <a:prstGeom prst="rect">
            <a:avLst/>
          </a:prstGeom>
          <a:ln w="0">
            <a:noFill/>
          </a:ln>
        </p:spPr>
      </p:pic>
      <p:sp>
        <p:nvSpPr>
          <p:cNvPr id="56" name="Oval 131"/>
          <p:cNvSpPr/>
          <p:nvPr/>
        </p:nvSpPr>
        <p:spPr>
          <a:xfrm>
            <a:off x="-411120" y="2097000"/>
            <a:ext cx="216000" cy="216000"/>
          </a:xfrm>
          <a:prstGeom prst="ellipse">
            <a:avLst/>
          </a:prstGeom>
          <a:solidFill>
            <a:srgbClr val="ffff00"/>
          </a:solidFill>
          <a:ln w="64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8-09T09:13:30Z</dcterms:modified>
  <cp:revision>159</cp:revision>
  <dc:subject/>
  <dc:title>Refile Manager V1.0</dc:title>
</cp:coreProperties>
</file>